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59B4-1CAF-41E5-B84C-CD1DB41D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3EE5-F096-434A-A870-0E193E19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4FF7-D517-487E-B53A-34F28805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BB32-D8FC-4EA9-AA8B-197432F9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ED29-6E08-4B31-A2C2-5F52B30A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92C9-2C84-47C6-803A-F082490F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7EAC-72CD-4F83-B4C3-7D0BF31E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E8EC-EED0-4112-9C95-D2DE058C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7E0F-283F-452B-8F18-B175AC81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C813-A2B9-42A9-B47C-EF19B904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F09C-C938-49CA-B366-C0A1B166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AD4A-F68D-432F-9B83-08C901D7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EEF9-0C08-40DB-9660-6CDF0242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46B6-F12C-486D-8F51-4D55D99D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3C20-F24B-41A7-9D67-C50B3660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309B-F55D-4356-8290-DC964E3B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5430-2FBB-4263-86A0-AC320FA1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3F59C9-7443-4070-AC28-55C7EFDA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C630B1-057A-4231-843F-72901C92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92270F-2BA1-4C9C-83FB-73ECBC6C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1BD793-0D2F-42CE-8D6F-67D43B26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19EC4-7ED3-4DEC-986A-E192E2FB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F723-CD54-44F7-8875-DAE689C5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FC716-0DE6-470A-A6AA-A6A96523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44DAD5-DCAC-4F5A-835A-7FEA0E22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9A28F-0074-46DD-BF02-253A90A6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8C8DD-24B9-410C-9780-5C56D0A2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A07478-2A68-40AD-84EF-D8A0B202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3D05F-0879-4185-A7E1-B483DB49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214D6B-1C27-4F62-8D5E-7E873D7E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D86C8E-3EF2-47AC-B922-B057F4167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BDEA1D-0684-481D-A2B0-7CBF6B25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A88861-8B1D-408B-83F4-C6BD3D52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F3B3-B59D-499D-9FA0-9B832A7D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294350-B67E-496C-A5D4-C2FC02CF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AC024A-40A4-4439-8158-ADA7AFC9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2EADD1-69AD-4578-A591-9B998736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2DBCF0-D8F6-4DE7-B669-7BE3A6C1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56713D-AF3B-4D7D-8AF2-AB39222A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2EA407-2EE3-44D9-9F82-614AB85F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DD4A0B-A0A6-4EA0-8AA2-6200F634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57CE8E-9A9C-4F21-A49C-013D60BC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C0829C-3C96-4AF8-99A2-E9C649DF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9ABB05-6F02-4DFF-AA5C-D46B96BA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949A-56B9-4AFF-9F02-A5B3136E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72067D-B00C-485A-9D0F-37F5AB0E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06B799-8C36-4A16-96EF-8519F567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CD308F-BBD4-4D00-B0EC-42A221F4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FE983A-CD41-4E3E-B4F6-7085007C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5D24D9-021E-4DC4-98E0-6FA9B78C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52E6E5-B8D8-44EE-A773-5982B189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A726F5-3C75-4665-8B3D-F55FE2A7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68A3D2-06BA-43DC-844E-4CDF27B3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7D7EA9-8529-49B9-AE81-35DFCA62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BC8B90-333D-4D87-8183-FF3999F5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7AF7-A081-4C34-BB56-6FEB3EE4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DE14A2-0B6C-484F-8A86-3919D8BA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A9035-B9F9-42A3-AC03-F2092029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1751C-6C23-45D2-82A7-6B8EE6D4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8E42B-F95E-4A0E-AE9A-A820EE50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BFA56-6169-480F-A16B-5AAAD78B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80287-35C9-4CA9-A752-A873952E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F3502-8BC5-4D2B-A424-7FC16632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5781C-05A5-4A05-91DE-8880ECBB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3D676-F14B-48CE-A0A0-172EB68A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11B79-D20D-4577-B0D9-24C4ED06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712C-CE2F-4D30-93EC-EB26A9B7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3FC9B-4B76-4D52-BB62-C430E765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5BA6A-640B-4B10-883B-5BCF9A4C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303B7-C966-4D2C-BC39-929A4553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347A2F-1F87-4F38-9DB6-CB6ECE0A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126A92-BD9A-43A7-A73A-7A47C788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5595F5-1595-4199-9E70-0959C229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D60C54-349F-4A53-8FBC-BE0A1F4A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A41C74-6C8E-4C70-B7A5-3C9171D7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2973DF-26E3-4AD8-8A9B-947D9B7E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C897CA-43AB-4F43-A258-CD30577D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7ECB-3E99-474F-B437-4537123B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A6D096-4108-46E6-9572-A117BABA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EAB242-9696-4C5C-A8E9-A6F5DA29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0A8B89-08A0-4E8C-8AD6-963FFB2C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38B0DD-1080-48CB-94CB-3E616A08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8DE84A-9D30-4FD5-82B6-2A7FF0C6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A0E96-12A0-4106-8F3B-F66E8463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83242-1A25-4C5D-9140-F23DBBE2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3BE64-7EE1-4297-B31C-9E1E4C82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5E16A-13B5-4DA6-9024-463DFAE1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D24D3-7730-4EEB-B5A1-3E0FC455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A426-7BEB-4C49-99B0-B3F94FE0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E9F12-DD69-4971-A14C-4CE5B9EB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C2085-F71B-4B69-BCF0-1E226041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B7A45-B180-4761-A500-840338C5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4154C-42C9-4BFE-AD5A-751A5EE3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7FD2B-1052-4E4C-A39B-7B872C89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BBD20-7C7C-4E70-BE28-6728301C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B5599-8026-4AF8-B37B-4ABC7705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3971-84AC-43B3-BB0B-8A05AE7F638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8EB5-F34F-4955-A8BE-BFC2C1DC446E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8369-F217-4289-8387-54B084A60C01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D4DA-82CD-4727-84CE-344EC042BC2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2E4D-7F7B-4A59-8D22-34983E5DC96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B182-BEAE-40C9-A7EF-6FD140A3A91A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DE18-9424-4BAE-BB23-52F0A70296C7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B04E-716E-4FB0-AF1F-3130B70F805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llkriminal.ru/archives/417" TargetMode="External"/><Relationship Id="rId2" Type="http://schemas.openxmlformats.org/officeDocument/2006/relationships/hyperlink" Target="http://www.bibliotekar.ru/polk-22/index.ht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1c6e6"/>
                </a:solidFill>
                <a:latin typeface="Calibri"/>
              </a:rPr>
              <a:t>ИЗМЕНЕНИЕ ПОЛИТИЧЕСКОЙ СИСТЕМЫ СССР В 1953-1964ГГ.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41440" y="2997000"/>
            <a:ext cx="80611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Учитель истории и обществознания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МКОУ «Пиндушская СОШ №1»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Коханович Софья Андреевна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1962-1964гг. – велась разработка новой Конституции СССР  - «государство диктатуры пролетариата должно превратиться в общенародное, допускалась частная собственность» – такие проекты устраивали далеко не все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з воспоминаний В.Молотов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ритикую общенародное государство… Не может государство выражать интересы и рабочего класса и колхозного крестьянства, и интеллигенции..Среди интеллигенции немало бывших классовых противников, они не могут за диктатуру пролетариата бороться…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64г. – Н.Хрущев был обвинен в волюнтаризме и субъективизме и отстранен от занимаемой должност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Волюнтаризм – политика, не считающаяся с объективными законами, реальными условиями и возможностям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228600"/>
            <a:ext cx="8370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исок использованных источников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)активные ссылки на страницы материалов в интерне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: Похороны Сталина: кровавая давка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allkriminal.ru/archives/4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: Никита Сергеевич Хрущев: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http://www.bibliotekar.ru/polk-22/index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)активные ссылки на использованные изобра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: Похороны Сталина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ttp://images.yandex.ru/yandsearch?source=wiz&amp;text=%D0%BF%D0%BE%D1%85%D0%BE%D1%80%D0%BE%D0%BD%D1%8B%20%D1%81%D1%82%D0%B0%D0%BB%D0%B8%D0%BD%D0%B0&amp;noreask=1&amp;img_url=http%3A%2F%2Fimg11.nnm.ru%2F4%2Fc%2F6%2F1%2Fb%2F8c8f67e14c8e292bfbab7c83c45.jpg&amp;pos=1&amp;rpt=simage&amp;lr=18&amp;nojs=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: Н.С.Хрущ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ttp://images.yandex.ru/yandsearch?source=psearch&amp;text=%D1%85%D1%80%D1%83%D1%89%D0%B5%D0%B2&amp;noreask=1&amp;img_url=http%3A%2F%2Frusmir.in.ua%2Fuploads%2Fposts%2F2009-11%2F1258626138_xrushhev.jpg&amp;pos=0&amp;rpt=simage&amp;lr=18&amp;nojs=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5 марта 1953г. – умер И.Сталин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размышляйте над высказыванием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У.Черчилль «Сталин принял Россию лапотной, а оставил с атомным оружием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240"/>
            <a:ext cx="81532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хороны И.В.Сталина. На улицах Москвы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5" name="Содержимое 3" descr="0_4209f_523cedc5_XL.jpeg"/>
          <p:cNvPicPr/>
          <p:nvPr/>
        </p:nvPicPr>
        <p:blipFill>
          <a:blip r:embed="rId1"/>
          <a:stretch/>
        </p:blipFill>
        <p:spPr>
          <a:xfrm>
            <a:off x="971640" y="1484280"/>
            <a:ext cx="7488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68360" y="1413000"/>
            <a:ext cx="8229600" cy="36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марта 1953г. – по март 1958г  - развернулась борьба за власть, в результате которой победу одержал Н.Хрущев (1-й секретарь ЦК КПС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Рисунок 3" descr="1258626138_xrushhev.jpg"/>
          <p:cNvPicPr/>
          <p:nvPr/>
        </p:nvPicPr>
        <p:blipFill>
          <a:blip r:embed="rId1"/>
          <a:stretch/>
        </p:blipFill>
        <p:spPr>
          <a:xfrm>
            <a:off x="2195640" y="2708280"/>
            <a:ext cx="5276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Разоблачение «культа личности» и реабилитация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79280" y="1699920"/>
            <a:ext cx="8640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3г. – первая массовая амнист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еабилитированы жертвы «ленинградского дела», «дела врачей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Февраль 1956г. – ХХ съезд КПСС – критика беззаконий сталинского режима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Н.Хрущев: «Эти вопросы созрели, их нужно было поднять. Если бы я их не поднял, их подняли бы другие. И это было бы гибелью для руководства, которое не прислушалось к велению времен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360" y="1557000"/>
            <a:ext cx="82296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уждались «переломы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ритика «культа личности» (осуществлялась не публично, а лишь в узких партийных кругах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литическую ответственность за все жертвы и лишения власть на себя не взял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8360" y="169992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6-1961г. – реабилитировано около 700 тыс. человек, часть из них – посмертно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есмотрено уголовное законодательство, прошла реорганизация лагерей, улучшены условия содержания заключенны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празднено понятие «враг народа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39640" y="1773000"/>
            <a:ext cx="8229600" cy="40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з воспоминаний Н.Хруще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«…Самое главное – все мы, весь народ, и те, кто был там, за проволокой, и те, кто трясся от страха здесь, по другую сторону проволоки, все мы глотнули другого воздуха. Это главное. Это теперь так просто у народа не отнять…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5328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Реорганизация государственных органов и партийных организаций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2205000"/>
            <a:ext cx="81532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сширены права союзных республи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7г. – реформированы отраслевые министерства – преобразованы в Советы Народного Хозяй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нят новый Устав КПСС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5:34:37Z</dcterms:created>
  <dc:creator>User</dc:creator>
  <dc:description/>
  <dc:language>en-US</dc:language>
  <cp:lastModifiedBy>User</cp:lastModifiedBy>
  <dcterms:modified xsi:type="dcterms:W3CDTF">2013-03-12T10:37:40Z</dcterms:modified>
  <cp:revision>6</cp:revision>
  <dc:subject/>
  <dc:title>Изменение политической системы СССР в 1953-1964гг.</dc:title>
</cp:coreProperties>
</file>